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02D-6FB8-458E-9619-52CCFF0E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B46-C1B9-4F8C-8514-B9E49EC1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338-7A4D-4EE5-9365-D9993D13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A8D-8DDF-422B-9B90-152FAB80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C53-D0A7-4ED0-8FDA-1C028A2E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D2E-9C9A-40DA-AEA3-173FDBCF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13E-4053-4D21-A04E-BEB67C18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A46-E1D2-4EA8-99B8-5D99619F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BCE-86D6-4138-B04B-473B7425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D92-6BC7-4F7F-8442-7BB06C63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9A5-F8A0-4348-805D-46CF5412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EF6-7F8B-4FC8-A942-E643CE59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32DD-F1A6-44EE-AE7A-98A953FB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a y Raq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ias De La Se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erc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Es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erno(diciembre,enero,febr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vera(marzo,abril,ma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ano(junio,julio,agos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no(septiembre,octubre,noviem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4711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m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o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19920" y="1447560"/>
            <a:ext cx="26668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u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8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escu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sc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lap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ban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carp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bilb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f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gimna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cray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mar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e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29:21Z</dcterms:created>
  <dc:creator>WSFCS Workstation</dc:creator>
  <dc:description/>
  <dc:language>en-US</dc:language>
  <cp:lastModifiedBy>WSFCS Workstation</cp:lastModifiedBy>
  <dcterms:modified xsi:type="dcterms:W3CDTF">2010-04-27T18:55:48Z</dcterms:modified>
  <cp:revision>3</cp:revision>
  <dc:subject/>
  <dc:title>La Clase De Espanol</dc:title>
</cp:coreProperties>
</file>